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1736-9AE4-4990-A68B-09D4C46E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7DD8-3568-47D1-98DE-32B0B97E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A630-22EA-41A6-900B-78B3497A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1126-3EC4-4B1D-8F58-DF74B5EF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AA45-8883-44A7-A2A7-B1AB8E5E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0A3A-60D2-42F6-917F-BD54D7C7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C5F5-4384-4FED-810C-7217B153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848C-2A49-4AC4-BF76-75C1560C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677-D3D1-45D1-8DD4-71EA7D3E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63C8-33E9-4228-9A2E-357314FC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596C-D7FB-46E5-B50C-26298D81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2C9E-2123-480F-BD66-A2D5EEAC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EF68-4394-46B4-A727-54DE10940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dult Discha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AdultDischarge9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AdultDischarge10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AdultDischarge11.jpg"/>
          <p:cNvPicPr/>
          <p:nvPr/>
        </p:nvPicPr>
        <p:blipFill>
          <a:blip r:embed="rId1"/>
          <a:stretch/>
        </p:blipFill>
        <p:spPr>
          <a:xfrm>
            <a:off x="766800" y="819000"/>
            <a:ext cx="76104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AdultDischarge12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AdultDischarge13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AdultDischarge1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AdultDischarge2.jpg"/>
          <p:cNvPicPr/>
          <p:nvPr/>
        </p:nvPicPr>
        <p:blipFill>
          <a:blip r:embed="rId1"/>
          <a:stretch/>
        </p:blipFill>
        <p:spPr>
          <a:xfrm>
            <a:off x="771480" y="838080"/>
            <a:ext cx="76010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AdultDischarge3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AdultDischarge4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AdultDischarge5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AdultDischarge6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AdultDischarge7.jpg"/>
          <p:cNvPicPr/>
          <p:nvPr/>
        </p:nvPicPr>
        <p:blipFill>
          <a:blip r:embed="rId1"/>
          <a:stretch/>
        </p:blipFill>
        <p:spPr>
          <a:xfrm>
            <a:off x="757080" y="828720"/>
            <a:ext cx="76298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AdultDischarge8.jpg"/>
          <p:cNvPicPr/>
          <p:nvPr/>
        </p:nvPicPr>
        <p:blipFill>
          <a:blip r:embed="rId1"/>
          <a:stretch/>
        </p:blipFill>
        <p:spPr>
          <a:xfrm>
            <a:off x="757080" y="833400"/>
            <a:ext cx="76298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8:43:52Z</dcterms:created>
  <dc:creator>zcui</dc:creator>
  <dc:description/>
  <dc:language>en-US</dc:language>
  <cp:lastModifiedBy>rbalne</cp:lastModifiedBy>
  <dcterms:modified xsi:type="dcterms:W3CDTF">2009-08-12T13:56:45Z</dcterms:modified>
  <cp:revision>1</cp:revision>
  <dc:subject/>
  <dc:title>TRAC</dc:title>
</cp:coreProperties>
</file>